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0F1-A61D-41EA-87E6-6D8CCDF2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5550-02FD-43FD-92A3-6FB1EFE5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6404-F01E-4D33-99CC-5CCFA12E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76DC-E901-4104-B524-F7C1C965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3E43-6D91-414D-9B78-99CF6CEF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82A1-3715-4E70-ABE7-5267B962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976-FC53-409E-9F0A-999658B5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198-97B3-4727-AA62-A55970FF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05C0-7723-42FA-ACFA-49E09876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3314-2415-46D6-BA85-EABC7D05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2DB4-4B13-48E1-A22F-4310BBF6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639-FAB3-4338-ACF4-676E591F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E391-9856-4A62-A4B4-7FC875E4C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fzo.rs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8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478160" y="3018960"/>
            <a:ext cx="61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ВАЛИДНОСТ ЕКОНОМСКИХ СТУДИЈ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економск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нализ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алидно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рађен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тудија има добро дефинисани економски циљ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Да ли упоређује добро дефинисане алтернативне поступке (дијагностичке или терапијске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Да ли дефинише гледиште са кога се спроводи анализ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тудија цитира добре доказе о ефикасности алтернатив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у студији идентификовани сви релевантни трошкови и ефекти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резултати економске студије значајни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рсте економских студиј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 minim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а трошкови/ефикасност (cost/effective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фекат два или више поступака се изрази у истим јединицама (нпр. трајање хоспитализације, смртност после месец дана и сл.), а затим се упоређују трошкови по јединици мерењ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а трошкови/добробит (cost/benef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фекти два или више поступака су изражени у различитим јединицама, али се затим конвертују у заједничку јединицу (нпр. новац); на крају се трошкови упоређују по заједничкој јединиц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а трошкови/употребљивост (cost/uti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lity Adjusted Life Years (QА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резултати економске студије значај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резултујући трошкови или трошкови по јединици мерења импресив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е закључци студије мењају ако се у реалним границама мењају цене лечења или ефек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(sensitivity analysis – анализа осетљивост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Да ли се резултати могу применити на нашег пацијент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требно је прилагодити економске студије рађене у другим земљама, пре свега за цене здравствених услу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Цене здравствених услуга су у Србији од 10 до 100 пута ниже од цене у развијеним земља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звор података за цене у Србији: тарифна књига РФЗО-а и Листа лекова РФЗО-а. Доступно на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rfzo.rs/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5-08-02T12:32:01Z</dcterms:modified>
  <cp:revision>58</cp:revision>
  <dc:subject/>
  <dc:title>Slide 1</dc:title>
</cp:coreProperties>
</file>